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C62-D057-450D-82FF-2044A272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33A-4242-440E-BD36-1DBF67F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14E-EC09-412E-9DA6-88DCCCA0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888-671F-4CD5-8539-59AB36FA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8B7E-DC39-4DD1-861F-70E7B66D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9D8-0937-44C0-8174-04FCB995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EFE-4954-4566-A93D-E064A636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895A-768F-404E-B700-8FBDF793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C46-EEB9-4054-BF88-D0890FC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2B3-548F-436F-9B09-32D67808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C9D0-BBFA-40D1-9A0F-D07AB9C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A61-CBDB-44E5-BC13-196D3F9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A5E5-2323-4C7C-A0C6-4EE83AA2D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MEDIUL LIMBAJULUI DE PROGRAMARE STUDI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Informatică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oordonator Mioara Gheorgh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 codificarea algoritmului în limbajul de programare ales, obţinem un program. Programul este transmis calculatorului prin introducerea textului de la tastatură (editare) şi memorat într-un fişier sursă cu extensia pas pentru limbajul Pascal (exemplu: program1.cpp) sau extensia cpp pentru limbajul C/C++ (exemplu: program1.cpp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duce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extului de program din limbajul de programare ales în limbajul intern al calculatorului se face de către compilator prin compilare. Compilatorul realizează și verificarea sintactică a programului, semnalând erorile detecta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rectarea erorilor se face prin editare, de la tastatură, fiind urmată de o nouă compilare. Când textul programului nu mai conţine nicio eroare, compilatorul generează un fişier obiect cu extensia obj (exemplu: program1.obj). Fişierul obiect este executat prin comanda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oferi programatorilor accesul la fişiere şi la resursele de editare, compilare şi execuţie, au fost dezvoltate mediile de programar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atele cu care lucrează un program pot fi memorate în fişierele text. Astfel se asigură păstrarea datelor şi reducerea timpului de operare la testarea/utilizarea programulu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 fişier text este format dintr-o succesiune de caractere ASCII scrise pe una sau mai multe linii (rânduri), pe memorie externă (disc). Sfârşitul fişierului este marcat de o etichetă specială: EOF (End Of File). Prelucrarea unui fişier se face prin mai multe operaţii: deschidere (pentru citire sau scriere), citire, scriere, închide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mp_i"/>
          <p:cNvPicPr/>
          <p:nvPr/>
        </p:nvPicPr>
        <p:blipFill>
          <a:blip r:embed="rId1"/>
          <a:stretch/>
        </p:blipFill>
        <p:spPr>
          <a:xfrm>
            <a:off x="5410080" y="182880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e prop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introduc n+m numer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A din primele n valor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B din următoarele m valo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verifice dacă o valoare oarecare x, introdusă de la tastatură, apar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i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ă se formez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ea R ca reuniune dintre mu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ile A și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levi lucrează împreună la un proiect pentru ora de istorie. Fiecare s-a documentat şi a întocmit o listă cu cele mai importante evenimente istorice. În proiect, trebuie prezentat o singură dată fiecare eveniment istoric, în ordine cronologic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Întocm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cele două liste cu cel mult 10 evenimente isto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Verificaţi dacă cele două liste pot fi interclas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bţineţi lista finală prin interclasarea celor două li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ă se determine dacă un an oarecare, A, aparţine listei de eveni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un program care să rezolve cerinţele de la punctele a,b,c şi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 cunosc rezultatele la Olimpiada de informatică pentru trei şcoli. Numărul de participanţi din fiecare şcoală este n1,n2, respectiv n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entru obţinerea clasamentului fiecărei şc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u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 algoritm prin care să se obţină clasamentul pentru toate şcol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ficienţa algoritmului propu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6:24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